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764-C121-4A14-BC31-9EA64652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BA2-EB07-42A3-9C53-A469F0FE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638-8E09-467D-AB2D-3E0591B9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F32-13DB-4B37-9E46-5DA82BE0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E6B7-67A3-4A81-97DF-3743D45C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0999-842F-4CA6-8F19-3F3BD65E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54B1-2A01-4B5B-8C33-DA4D2C5D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4FD7-57C1-4E09-A299-059E1017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E1AF-6DAC-4E90-A611-4868B0A5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3251-99A7-423A-B408-D75D9C2E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E15E-525E-4AE5-A8BA-415F4FE1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1DF-0612-4736-9E75-0E18952C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6A93-8A29-428F-9843-D0B293A5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DE0E-7326-44F9-B800-0112C87F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E25E-8798-486D-8A92-44378AA4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1AA5-8D84-4F78-90EE-8DC65CA9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01C2-E786-499E-AE95-6952D1CD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64A2-FDC2-4859-840A-23E2A497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3928-0D0F-4345-9603-D69C235A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40F-B49A-42D7-8421-884275FA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3D6-71D0-46AC-9046-5AFC8844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FF75-97D5-432C-9842-A5CC4EF4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BCC9-C8E5-48BA-8623-F84690F8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918-6D3F-401C-B4A8-867F691F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8EEB-2A32-462D-9F21-3AE2642B0A7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8426-0B67-4F5F-B131-AEEA11A091E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1187280" y="1484280"/>
            <a:ext cx="684072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Всегда твой выбор!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6" descr=""/>
          <p:cNvPicPr/>
          <p:nvPr/>
        </p:nvPicPr>
        <p:blipFill>
          <a:blip r:embed="rId1"/>
          <a:stretch/>
        </p:blipFill>
        <p:spPr>
          <a:xfrm>
            <a:off x="0" y="3068640"/>
            <a:ext cx="1512720" cy="244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47640" y="1773000"/>
            <a:ext cx="2880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ЖИЗНЬ ЕСТЬ ИСПЫТАНИ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о/нужн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я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всегд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СТРАХ ПЕРЕД ОБЯЗАТЕЛЬСТВАМ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НАМЕРЕНИЕ ОСУЖДАТЬ И ОЦЕНИВА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51280" y="1628280"/>
            <a:ext cx="3168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7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ОЩУЩЕНИЕ РАДОСТИ ЖИЗН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ира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ОБЯЗАТЕЛЬСТВО КАК СТИМУ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НАМЕРЕНИЕ СДЕЛАТЬ МИР ЛУЧШ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0" y="333360"/>
            <a:ext cx="450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ЦЕНТРОСТРЕМИТЕЛЬНЫЕ ИНТЕРЕС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РЕЖИМ ТРЕВОЖНОСТ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356000" y="476280"/>
            <a:ext cx="4500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ЦЕНТРОБЕЖНЫЕ ИНТЕРЕС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РЕЖИМ ПРИСУТСТВИЯ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250920" y="2133720"/>
            <a:ext cx="1152360" cy="431640"/>
          </a:xfrm>
          <a:prstGeom prst="wedgeRoundRectCallout">
            <a:avLst>
              <a:gd name="adj1" fmla="val -7712"/>
              <a:gd name="adj2" fmla="val 181986"/>
              <a:gd name="adj3" fmla="val 1666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здес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4427640" y="1989000"/>
            <a:ext cx="1152360" cy="936720"/>
          </a:xfrm>
          <a:prstGeom prst="wedgeRoundRectCallout">
            <a:avLst>
              <a:gd name="adj1" fmla="val 6337"/>
              <a:gd name="adj2" fmla="val 84916"/>
              <a:gd name="adj3" fmla="val 1666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жив!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активен и мне хорошо!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9" descr=""/>
          <p:cNvPicPr/>
          <p:nvPr/>
        </p:nvPicPr>
        <p:blipFill>
          <a:blip r:embed="rId2">
            <a:lum bright="6000"/>
          </a:blip>
          <a:srcRect l="5198" t="0" r="0" b="0"/>
          <a:stretch/>
        </p:blipFill>
        <p:spPr>
          <a:xfrm>
            <a:off x="4356000" y="3284640"/>
            <a:ext cx="1300320" cy="1904760"/>
          </a:xfrm>
          <a:prstGeom prst="rect">
            <a:avLst/>
          </a:prstGeom>
          <a:ln w="0">
            <a:noFill/>
          </a:ln>
        </p:spPr>
      </p:pic>
      <p:sp>
        <p:nvSpPr>
          <p:cNvPr id="183" name="WordArt 10"/>
          <p:cNvSpPr txBox="1"/>
          <p:nvPr/>
        </p:nvSpPr>
        <p:spPr>
          <a:xfrm>
            <a:off x="1547640" y="573408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!!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5580000" y="5734080"/>
            <a:ext cx="2925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Ы!!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5651640" y="1557360"/>
            <a:ext cx="3419280" cy="4032360"/>
          </a:xfrm>
          <a:prstGeom prst="rightArrowCallout">
            <a:avLst>
              <a:gd name="adj1" fmla="val 29485"/>
              <a:gd name="adj2" fmla="val 29483"/>
              <a:gd name="adj3" fmla="val 16667"/>
              <a:gd name="adj4" fmla="val 79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15"/>
          <p:cNvSpPr/>
          <p:nvPr/>
        </p:nvSpPr>
        <p:spPr>
          <a:xfrm rot="10800000">
            <a:off x="899640" y="1628280"/>
            <a:ext cx="3419640" cy="3961080"/>
          </a:xfrm>
          <a:prstGeom prst="rightArrowCallout">
            <a:avLst>
              <a:gd name="adj1" fmla="val 28961"/>
              <a:gd name="adj2" fmla="val 28958"/>
              <a:gd name="adj3" fmla="val 16667"/>
              <a:gd name="adj4" fmla="val 79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5" descr=""/>
          <p:cNvPicPr/>
          <p:nvPr/>
        </p:nvPicPr>
        <p:blipFill>
          <a:blip r:embed="rId1"/>
          <a:stretch/>
        </p:blipFill>
        <p:spPr>
          <a:xfrm>
            <a:off x="34920" y="3141720"/>
            <a:ext cx="1512720" cy="244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547640" y="1773000"/>
            <a:ext cx="2880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ЖИЗНЬ ЕСТЬ ИСПЫТАНИ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о/нужн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я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всегд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37692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СТРАХ ПЕРЕД ОБЯЗАТЕЛЬСТВАМ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НАМЕРЕНИЕ ОСУЖДАТЬ И ОЦЕНИВА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51280" y="1628280"/>
            <a:ext cx="3168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70000"/>
              </a:lnSpc>
              <a:spcBef>
                <a:spcPts val="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ОЩУЩЕНИЕ РАДОСТИ ЖИЗНИ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ира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94680" indent="-37692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ОБЯЗАТЕЛЬСТВО КАК СТИМУ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НАМЕРЕНИЕ СДЕЛАТЬ МИР ЛУЧШ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0" y="333360"/>
            <a:ext cx="450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ЦЕНТРОСТРЕМИТЕЛЬНЫЕ ИНТЕРЕС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РЕЖИМ ТРЕВОЖНОСТ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356000" y="476280"/>
            <a:ext cx="4500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ЦЕНТРОБЕЖНЫЕ ИНТЕРЕС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РЕЖИМ ПРИСУТСТВИЯ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250920" y="2133720"/>
            <a:ext cx="1152360" cy="431640"/>
          </a:xfrm>
          <a:prstGeom prst="wedgeRoundRectCallout">
            <a:avLst>
              <a:gd name="adj1" fmla="val -7712"/>
              <a:gd name="adj2" fmla="val 181986"/>
              <a:gd name="adj3" fmla="val 1666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здес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4427640" y="1989000"/>
            <a:ext cx="1152360" cy="936720"/>
          </a:xfrm>
          <a:prstGeom prst="wedgeRoundRectCallout">
            <a:avLst>
              <a:gd name="adj1" fmla="val 6337"/>
              <a:gd name="adj2" fmla="val 84916"/>
              <a:gd name="adj3" fmla="val 1666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жив!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активен и мне хорошо!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9" descr=""/>
          <p:cNvPicPr/>
          <p:nvPr/>
        </p:nvPicPr>
        <p:blipFill>
          <a:blip r:embed="rId2">
            <a:lum bright="6000"/>
          </a:blip>
          <a:srcRect l="5198" t="0" r="0" b="0"/>
          <a:stretch/>
        </p:blipFill>
        <p:spPr>
          <a:xfrm>
            <a:off x="4356000" y="3284640"/>
            <a:ext cx="1300320" cy="1904760"/>
          </a:xfrm>
          <a:prstGeom prst="rect">
            <a:avLst/>
          </a:prstGeom>
          <a:ln w="0">
            <a:noFill/>
          </a:ln>
        </p:spPr>
      </p:pic>
      <p:sp>
        <p:nvSpPr>
          <p:cNvPr id="195" name="WordArt 10"/>
          <p:cNvSpPr txBox="1"/>
          <p:nvPr/>
        </p:nvSpPr>
        <p:spPr>
          <a:xfrm>
            <a:off x="1763640" y="5661000"/>
            <a:ext cx="2303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ЧИНЫ!!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WordArt 11"/>
          <p:cNvSpPr txBox="1"/>
          <p:nvPr/>
        </p:nvSpPr>
        <p:spPr>
          <a:xfrm>
            <a:off x="5651640" y="5661000"/>
            <a:ext cx="278100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УЛЬТАТЫ!!!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AutoShape 12"/>
          <p:cNvSpPr/>
          <p:nvPr/>
        </p:nvSpPr>
        <p:spPr>
          <a:xfrm>
            <a:off x="5689440" y="1557360"/>
            <a:ext cx="3419640" cy="4032360"/>
          </a:xfrm>
          <a:prstGeom prst="rightArrowCallout">
            <a:avLst>
              <a:gd name="adj1" fmla="val 29482"/>
              <a:gd name="adj2" fmla="val 29479"/>
              <a:gd name="adj3" fmla="val 16667"/>
              <a:gd name="adj4" fmla="val 79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AutoShape 13"/>
          <p:cNvSpPr/>
          <p:nvPr/>
        </p:nvSpPr>
        <p:spPr>
          <a:xfrm rot="10800000">
            <a:off x="899640" y="1628280"/>
            <a:ext cx="3419640" cy="3961080"/>
          </a:xfrm>
          <a:prstGeom prst="rightArrowCallout">
            <a:avLst>
              <a:gd name="adj1" fmla="val 28961"/>
              <a:gd name="adj2" fmla="val 28958"/>
              <a:gd name="adj3" fmla="val 16667"/>
              <a:gd name="adj4" fmla="val 796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WordArt 14"/>
          <p:cNvSpPr txBox="1"/>
          <p:nvPr/>
        </p:nvSpPr>
        <p:spPr>
          <a:xfrm>
            <a:off x="2124000" y="5877000"/>
            <a:ext cx="5562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ГДА ТВОЙ ВЫБОР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2496600"/>
            <a:ext cx="3744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ЗАЩ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5280" y="2496600"/>
            <a:ext cx="54356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УЧИ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2133360"/>
            <a:ext cx="4176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САМОУТВЕРЖДЕНИЕ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0" y="2133720"/>
            <a:ext cx="4572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4176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САМОУТВЕРЖДЕНИЕ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41680" y="2204640"/>
            <a:ext cx="4680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4000" y="1699920"/>
            <a:ext cx="38163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16000" y="1628280"/>
            <a:ext cx="4248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44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44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44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3816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ЖИЗНЬ ЕСТЬ ИСПЫТ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о/нужн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я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сег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н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0" y="981000"/>
            <a:ext cx="424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7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ЩУЩЕНИЕ РАДОСТИ ЖИЗН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44280" indent="-357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ира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44280" indent="-357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44280" indent="-357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44280" indent="-35784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381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ЖИЗНЬ ЕСТЬ ИСПЫТ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о/нужн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я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сег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н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СТРАХ ПЕРЕД ОБЯЗАТЕЛЬСТВ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16000" y="764640"/>
            <a:ext cx="42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7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ЩУЩЕНИЕ РАДОСТИ ЖИЗН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ира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ОБЯЗАТЕЛЬСТВО КАК СТИМУ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0920" y="620640"/>
            <a:ext cx="381636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ЖИЗНЬ ЕСТЬ ИСПЫТА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36936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36936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о/нужн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36936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я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36936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сег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36936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н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СТРАХ ПЕРЕД ОБЯЗАТЕЛЬСТВ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НАМЕРЕНИЕ ОСУЖДАТЬ И ОЦЕНИВА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16000" y="549000"/>
            <a:ext cx="4248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7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ОЩУЩЕНИЕ РАДОСТИ ЖИЗН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54360" indent="-36180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ира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54360" indent="-36180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54360" indent="-36180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54360" indent="-36180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ОБЯЗАТЕЛЬСТВО КАК СТИМУ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3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НАМЕРЕНИЕ СДЕЛАТЬ МИР ЛУЧШ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547640" y="1773000"/>
            <a:ext cx="288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АМОЗАЩИ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САМОУТВЕРЖД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ДОБРЫЕ НАМЕР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«Я ПОПЫТАЮСЬ…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ЖИЗНЬ ЕСТЬ ИСПЫТАНИЕ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о/нужн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я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всегд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923760" indent="-380880">
              <a:lnSpc>
                <a:spcPct val="5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СТРАХ ПЕРЕД ОБЯЗАТЕЛЬСТВА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МЕРЕНИЕ ОСУЖДАТЬ И ОЦЕНИВА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96000" y="1628640"/>
            <a:ext cx="3168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СТРЕМЛЕНИЕ УЧИТЬ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НТЕРЕС К ДРУГИ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ОТВЕТСТВЕННОСТЬ ЗА РЕЗУЛЬТАТ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«ТЫ МОЖЕШЬ НА МЕНЯ ПОЛОЖИТЬСЯ…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7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ЩУЩЕНИЕ РАДОСТИ ЖИЗН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бира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ч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004760" indent="-38088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гу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ОБЯЗАТЕЛЬСТВО КАК СТИМУ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МЕРЕНИЕ СДЕЛАТЬ МИР ЛУЧШ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0" y="333360"/>
            <a:ext cx="450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ЦЕНТРОСТРЕМИТЕЛЬНЫЕ ИНТЕРЕС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РЕЖИМ ТРЕВОЖНОСТ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356000" y="476280"/>
            <a:ext cx="4500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ЦЕНТРОБЕЖНЫЕ ИНТЕРЕС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Rockwell Extra Bold"/>
              </a:rPr>
              <a:t>РЕЖИМ ПРИСУТСТВИЯ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250920" y="2349360"/>
            <a:ext cx="1152360" cy="432000"/>
          </a:xfrm>
          <a:prstGeom prst="wedgeRoundRectCallout">
            <a:avLst>
              <a:gd name="adj1" fmla="val -18180"/>
              <a:gd name="adj2" fmla="val 147425"/>
              <a:gd name="adj3" fmla="val 1666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здес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572000" y="1916280"/>
            <a:ext cx="1152360" cy="936360"/>
          </a:xfrm>
          <a:prstGeom prst="wedgeRoundRectCallout">
            <a:avLst>
              <a:gd name="adj1" fmla="val 6337"/>
              <a:gd name="adj2" fmla="val 84916"/>
              <a:gd name="adj3" fmla="val 16667"/>
            </a:avLst>
          </a:prstGeom>
          <a:solidFill>
            <a:srgbClr val="f1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жив!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 активен и мне хорошо!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10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284720" y="3284640"/>
            <a:ext cx="1371600" cy="1904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"/>
          <p:cNvPicPr/>
          <p:nvPr/>
        </p:nvPicPr>
        <p:blipFill>
          <a:blip r:embed="rId2"/>
          <a:stretch/>
        </p:blipFill>
        <p:spPr>
          <a:xfrm>
            <a:off x="106200" y="3284640"/>
            <a:ext cx="1513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4:50:44Z</dcterms:created>
  <dc:creator>USER</dc:creator>
  <dc:description/>
  <dc:language>en-US</dc:language>
  <cp:lastModifiedBy>HP</cp:lastModifiedBy>
  <dcterms:modified xsi:type="dcterms:W3CDTF">2020-11-05T06:54:09Z</dcterms:modified>
  <cp:revision>11</cp:revision>
  <dc:subject/>
  <dc:title>Слайд 1</dc:title>
</cp:coreProperties>
</file>